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otomicrographs showing the time course of rabbit MI revealed by Masson’s trichrome stain (left panels) and immunohistochemical reactions against α-smooth muscle–specific actin on the serial sections (right panels). A and A′, 2-day MI. B and B′, 2-week MI. C and C′, 4-week MI. Panel A shows histological findings of acute 2-day MI. The upper half shows salvaged tissues, and the lower half shows infarcted tissues. The arrowheads mark the border of MI. Panels B and C represent the granulation tissue of 2-week MI and scar tissue of 4-week MI, respectively, stained blue. In panel A′, brown α-smooth muscle actin was restricted to the vasculature (arrows) in 2-day MI. However, there were abundant myofibroblasts that were positive for α-smooth muscle–specific actin in granulation tissue (panel B′). Myofibroblasts in panel (B′) are oriented in parallel to the salvaged cardiomyocytes indicated by asterisks in panel B. The myofibroblasts had become rare but were still noted in scar tissue (panel C′). Original magnifications, ×100 (panels A and A′) and ×40 (panels B, B′, C, and 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sitive TUNEL reactions observed in various types of cells after MI. A, A polymorphonuclear leukocyte with positive TUNEL reaction (indicated by an arrow; ie, stained brown) in infarcted area 2 days after MI. B, Double immunohistochemical preparation (α-smooth muscle–specific actin and TUNEL) of the infarct tissue 2 weeks after MI. The myofibroblasts were positive for α-smooth muscle–specific actin (purple cytoplasm). A myofibroblast double-positive for TUNEL (brown nucleus indicated by an arrow) and α-smooth muscle–specific actin is seen. A myofibroblast negative for TUNEL is indicated by an arrowhead. C, Macrophages double-positive for TUNEL (brown nucleus) and RAM11 (purple cytoplasm) 2 weeks after MI (indicated by arrows). Macrophages (arrowheads, positive for RAM11) are negative for TUNEL. D, A capillary endothelial cell double-positive for TUNEL and CD31 2 weeks after MI (arrow). Endothelial cells (arrowhead) are negative for TUNEL. V indicates vessel lumen. Original magnifications, ×750 (A) and ×400 (B through 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otal number of interstitial cells (noncardiomyocytes) per HPF (×400) in the infarcted area 2 days, 2 weeks, and 4 weeks after MI (top) and proportion of interstitial cell types occupying the infarcted area expressed as a percentage (bottom). B, Mean incidence of TUNEL-positive interstitial cells in the infarcted area 2 days, 2 weeks, and 4 weeks after MI (top) and proportion of TUNEL-positive interstitial cell types in the infarcted area expressed as a percentage (bottom). VSMC indicates vascular smooth muscle cel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garose gel electrophoresis of DNA. Lane 1 is a 100-bp ladder marker. Lane 2 is from the prostate of a rabbit castrated 2 days before study and used as a positive control. Lanes 3 and 4 are from a rabbit heart 2 days after MI (lane 3, nonischemic area; lane 4, ischemic area). Lane 5 is from the ischemic area of a heart 2 weeks after MI. Lane 6 is from the ischemic area of a heart 4 weeks after MI. Note that the ischemic area of the 2-day MI (lane 4) shows a clear ladd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showing myocardial interstitial cell apoptosis in infarcted areas: inflammatory cells in 2-day MI (A and B) and granulation tissue in 2-week MI (C through F). A and B, Nuclear chromatin is eccentric in the leukocyte shown in panel A and markedly condensed in panel B. An apoptotic leukocyte is indicated by the arrow in panel B, in which not only nuclei but also the cytoplasm are markedly shriveled. The plasma membrane in each apoptotic cell is not ruptured. C, A typically apoptotic myofibroblast. The homogeneously condensed nucleus with a glossy appearance is indicated by an arrow, and the intracytoplasmic microfilaments are indicated by arrowheads. D, An apoptotic macrophage. The nucleus with peripherally condensed chromatin is seen in the center (N), and many phagolysosomes are noted in the cytoplasm. E, An apoptotic cell (surrounded by arrows) engulfed by a macrophage, in which severely shrunken cytoplasm surrounds the nucleus with marginally condensed chromatin. AN indicates nucleus of apoptotic cell; MN, nucleus of the macrophage; and L, lipid droplet in the macrophage. F, An apoptotic cell of unknown origin with figures of apoptotic bodies surrounded by endothelial cells. Small arrows indicate cellular junctions of the endothelial cells. The remains of the nucleolus (larger arrow) are evident in one of the apoptotic bodies. Bars=1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of preparations labeled with immunogold for electron microscopic TUNEL. A and B, Normal (panel A) and apoptotic (panel B) cells of the prostate are shown from a rabbit castrated 2 days before study. Gold particles are accumulated slightly on the nucleus (N, panel A) of a normal cell but much more on the condensed chromatin (CC) of the nucleus (N, panel B) of an apoptotic cell. Gold particles are rare on other subcellular structures. C, An apoptotic leukocyte. Numerous gold particles label the condensed nucleus (N). MF indicates myofibrils of the infarcted cardiomyocyte. D, Condensed nucleus (N) of a capillary endothelial cell is definitely labeled by gold particles. RBC indicates red blood cell in the capillary lumen. E, Engulfed electron-dense materials (indicated by arrows) are labeled by gold particles and are therefore TUNEL-positive. They are thus thought to be apoptotic bodies. F, The nucleus (N) of a myofibroblast is markedly labeled by gold particles. This cell is not typical of an apoptotic cell, but its nucleus shows homogeneous density. Arrows indicate microfilaments in the myofibroblast. Bars=1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ole of Apoptosis in the Disappearance of Infiltrated and Proliferated Interstitial Cells After Myocardial Infarc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enzou Takemura, Michiya Ohno, Yukihiro Hayakawa, Jun Misao, Motoo Kanoh, Atsuko Ohno, Yoshihiro Uno, Shinya Minatoguchi, Takako Fujiwara, and Hisayoshi Fujiwar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 Research</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2(11):1130-113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5, 1998</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otomicrographs showing the time course of rabbit MI revealed by Masson’s trichrome stain (left panels) and immunohistochemical reactions against α-smooth muscle–specific actin on the serial sections (right pane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413080" y="1079640"/>
            <a:ext cx="5257800" cy="5394240"/>
          </a:xfrm>
          <a:prstGeom prst="rect">
            <a:avLst/>
          </a:prstGeom>
          <a:ln w="0">
            <a:noFill/>
          </a:ln>
        </p:spPr>
      </p:pic>
      <p:sp>
        <p:nvSpPr>
          <p:cNvPr id="49" name=""/>
          <p:cNvSpPr/>
          <p:nvPr/>
        </p:nvSpPr>
        <p:spPr>
          <a:xfrm>
            <a:off x="241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11286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sitive TUNEL reactions observed in various types of cells after MI. A, A polymorphonuclear leukocyte with positive TUNEL reaction (indicated by an arrow; ie, stained brown) in infarcted area 2 days after MI. B, Double immunohistochemical preparation (α-smooth muscle–specific actin and TUNEL) of the infarct tissue 2 weeks after MI. The myofibroblasts were positive for α-smooth muscle–specific actin (purple cytoplasm).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722600" y="1079640"/>
            <a:ext cx="6640200" cy="5394240"/>
          </a:xfrm>
          <a:prstGeom prst="rect">
            <a:avLst/>
          </a:prstGeom>
          <a:ln w="0">
            <a:noFill/>
          </a:ln>
        </p:spPr>
      </p:pic>
      <p:sp>
        <p:nvSpPr>
          <p:cNvPr id="54" name=""/>
          <p:cNvSpPr/>
          <p:nvPr/>
        </p:nvSpPr>
        <p:spPr>
          <a:xfrm>
            <a:off x="17226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otal number of interstitial cells (noncardiomyocytes) per HPF (×400) in the infarcted area 2 days, 2 weeks, and 4 weeks after MI (top) and proportion of interstitial cell types occupying the infarcted area expressed as a percentage (bottom).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960560" y="1079640"/>
            <a:ext cx="6165720" cy="5394240"/>
          </a:xfrm>
          <a:prstGeom prst="rect">
            <a:avLst/>
          </a:prstGeom>
          <a:ln w="0">
            <a:noFill/>
          </a:ln>
        </p:spPr>
      </p:pic>
      <p:sp>
        <p:nvSpPr>
          <p:cNvPr id="59" name=""/>
          <p:cNvSpPr/>
          <p:nvPr/>
        </p:nvSpPr>
        <p:spPr>
          <a:xfrm>
            <a:off x="1960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garose gel electrophoresis of DNA. Lane 1 is a 100-bp ladder marker.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662200" y="1079640"/>
            <a:ext cx="4762440" cy="5394240"/>
          </a:xfrm>
          <a:prstGeom prst="rect">
            <a:avLst/>
          </a:prstGeom>
          <a:ln w="0">
            <a:noFill/>
          </a:ln>
        </p:spPr>
      </p:pic>
      <p:sp>
        <p:nvSpPr>
          <p:cNvPr id="64" name=""/>
          <p:cNvSpPr/>
          <p:nvPr/>
        </p:nvSpPr>
        <p:spPr>
          <a:xfrm>
            <a:off x="2662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showing myocardial interstitial cell apoptosis in infarcted areas: inflammatory cells in 2-day MI (A and B) and granulation tissue in 2-week MI (C through F).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743200" y="1079640"/>
            <a:ext cx="4600440" cy="5394240"/>
          </a:xfrm>
          <a:prstGeom prst="rect">
            <a:avLst/>
          </a:prstGeom>
          <a:ln w="0">
            <a:noFill/>
          </a:ln>
        </p:spPr>
      </p:pic>
      <p:sp>
        <p:nvSpPr>
          <p:cNvPr id="69" name=""/>
          <p:cNvSpPr/>
          <p:nvPr/>
        </p:nvSpPr>
        <p:spPr>
          <a:xfrm>
            <a:off x="2743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of preparations labeled with immunogold for electron microscopic TUNEL. A and B, Normal (panel A) and apoptotic (panel B) cells of the prostate are shown from a rabbit castrated 2 days before stud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2757600" y="1079640"/>
            <a:ext cx="4570200" cy="5394240"/>
          </a:xfrm>
          <a:prstGeom prst="rect">
            <a:avLst/>
          </a:prstGeom>
          <a:ln w="0">
            <a:noFill/>
          </a:ln>
        </p:spPr>
      </p:pic>
      <p:sp>
        <p:nvSpPr>
          <p:cNvPr id="74" name=""/>
          <p:cNvSpPr/>
          <p:nvPr/>
        </p:nvSpPr>
        <p:spPr>
          <a:xfrm>
            <a:off x="2757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nzou Takemura et al. Circ Res. 1998;82:1130-1138</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